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00535"/>
        <c:axId val="99314449"/>
      </c:barChart>
      <c:catAx>
        <c:axId val="62800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4449"/>
        <c:crosses val="autoZero"/>
        <c:auto val="1"/>
        <c:lblAlgn val="ctr"/>
        <c:lblOffset val="100"/>
        <c:noMultiLvlLbl val="0"/>
      </c:catAx>
      <c:valAx>
        <c:axId val="99314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0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6B6-8005-4671-A63F-92B9190C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11D-0B14-4D69-8130-69547E87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301-FAD1-46FB-B1AA-5FF8DCD0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E3F-9CFF-42A7-9A48-DFF99DFD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8B1-4BF0-4C1E-97EB-20F86311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5BE-9CB3-4382-A3CE-9E3EB484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CDD-D374-4347-A507-044D0943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507-730B-418A-A7E2-727355FC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A95-D26E-4F12-B48C-CC9C653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1C3-351C-4EDF-AF44-04B9D29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31A-E2CE-4823-8DB2-8F5E07E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326-F33A-4395-A2B1-31C72BE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AC7F6-A5AA-414C-82F3-6D75D1B7D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