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19220"/>
        <c:axId val="60554755"/>
      </c:barChart>
      <c:catAx>
        <c:axId val="48119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54755"/>
        <c:crosses val="autoZero"/>
        <c:auto val="1"/>
        <c:lblAlgn val="ctr"/>
        <c:lblOffset val="100"/>
        <c:noMultiLvlLbl val="0"/>
      </c:catAx>
      <c:valAx>
        <c:axId val="60554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9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824-5A20-4394-B6DE-DE73649D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361-9888-46EA-AA18-D535E30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6D9-F805-4072-9143-BFAD3337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354-A8AA-4891-82C5-81771080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66F-0546-466D-BBB1-13528A0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469-37BD-4432-9600-E258F43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B4D-97B9-4BD4-A42B-A45D5EF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65C-7936-4DDF-A345-63DE194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5E1-3486-4019-BEFD-3D853CD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CC9-CF6C-43BC-9CD5-28EFF2E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411-B0DB-4D1A-82C5-8E9372A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457-FD34-43AC-A76F-FF31557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CBA5F-D13F-401A-ACC7-62C84393F8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