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338779"/>
        <c:axId val="74000651"/>
      </c:barChart>
      <c:catAx>
        <c:axId val="733387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000651"/>
        <c:crosses val="autoZero"/>
        <c:auto val="1"/>
        <c:lblAlgn val="ctr"/>
        <c:lblOffset val="100"/>
        <c:noMultiLvlLbl val="0"/>
      </c:catAx>
      <c:valAx>
        <c:axId val="740006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3387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91C2-3A16-4BF9-BD50-6A8D1DD48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DE40-84DD-4E8A-A056-7E85ADF1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CFB1-DA88-4EA8-8D9B-768541672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2075-8222-46EB-BF52-9DB4CED89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B54F-733B-48A4-A970-F36957E3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688D-724C-474F-B1C2-C246D192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12DB-A841-4184-B936-C7EB2F05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EDBC-053B-429F-AE42-490EAA23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39C2-7475-4F15-8C87-9419AC09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41A9-5E61-4C35-B3B3-9DCC4D3B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971D-EC86-4F94-BCF8-C19EB824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168C-502D-48BD-BB52-32277F4F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0357A6-7ACD-4A11-95A7-9D6D891688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