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03699"/>
        <c:axId val="83647664"/>
      </c:barChart>
      <c:catAx>
        <c:axId val="82603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47664"/>
        <c:crosses val="autoZero"/>
        <c:auto val="1"/>
        <c:lblAlgn val="ctr"/>
        <c:lblOffset val="100"/>
        <c:noMultiLvlLbl val="0"/>
      </c:catAx>
      <c:valAx>
        <c:axId val="83647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03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2A6-32D1-4EC1-A52F-D0AACBFB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9D9-931F-4CFF-8E63-7FB39BA5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3A5-6F14-47BC-839D-23165939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CCC-A5F9-4932-89BA-99AF6E59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944-8BE6-487C-9060-F73606AE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BD9-8739-45B3-B8F1-839934AE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6DA-4B64-480F-BA49-B044FD32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D54-9979-4D63-9431-9DDDD55C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68E-A28F-4A8D-A10F-20716279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D19-1109-4604-B01A-935C6251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8E9-708E-4483-B05C-4FB8B2F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112-5EFA-49B0-AE36-34A8697B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84DCF-BF2D-45DA-9C66-2D654414BB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