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13279"/>
        <c:axId val="34014414"/>
      </c:barChart>
      <c:catAx>
        <c:axId val="69813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14414"/>
        <c:crosses val="autoZero"/>
        <c:auto val="1"/>
        <c:lblAlgn val="ctr"/>
        <c:lblOffset val="100"/>
        <c:noMultiLvlLbl val="0"/>
      </c:catAx>
      <c:valAx>
        <c:axId val="34014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13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3BF-FB02-44D3-A5BC-1FE44F4E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C61-9AB6-4485-A878-9D8A4855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CB5-5B02-4971-9CBD-2FE2394C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334-7794-4196-8B22-D100FEE3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4CA-45B3-443A-988A-44741AFE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180-303A-440B-847A-C6B1A460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D46-167B-4545-933D-3AEA79D8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9F8-FE40-4A79-8AEB-B693A25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317-BF50-4CDD-8809-7AE531B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A2E-FBEE-4714-8BEA-A39466C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04D-6987-4F10-BF7E-CB2B6E4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A5A-CA64-41DF-87E6-B5FBD7C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6391A-F592-4448-B898-7B775391A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