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82130"/>
        <c:axId val="47817777"/>
      </c:barChart>
      <c:catAx>
        <c:axId val="98082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7777"/>
        <c:crosses val="autoZero"/>
        <c:auto val="1"/>
        <c:lblAlgn val="ctr"/>
        <c:lblOffset val="100"/>
        <c:noMultiLvlLbl val="0"/>
      </c:catAx>
      <c:valAx>
        <c:axId val="47817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2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D33-7097-4510-8FF4-78519E1A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217-E87A-4311-A027-0B4A1D5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A1D-50A7-4778-8933-32437006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0E6-48CA-48DE-B909-A1312341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55C-AAB0-4F1C-84D3-3BE42349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14D-5957-42C4-BCD2-319561AC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096-6DEF-4F88-9009-CF137204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483-26C9-4700-B61C-2BFB4E9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CD3-0DAE-48AB-ACA7-A3644E5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E60-89F6-463C-824A-1680978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582-1133-4D78-92F9-6A2DAD9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B9B-A240-432C-AE89-B172FE0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B9248-768B-4A64-B334-BB511A714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