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26962"/>
        <c:axId val="24255518"/>
      </c:barChart>
      <c:catAx>
        <c:axId val="84426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5518"/>
        <c:crosses val="autoZero"/>
        <c:auto val="1"/>
        <c:lblAlgn val="ctr"/>
        <c:lblOffset val="100"/>
        <c:noMultiLvlLbl val="0"/>
      </c:catAx>
      <c:valAx>
        <c:axId val="24255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6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3BC-715E-4775-A26C-7580FF97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EFF-5251-4216-B76C-C74907D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124-9165-4D03-AFC6-3FE875E7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47D-8882-4BF8-A215-A421F64F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FCC-F76B-418A-82B1-4A227AB1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7E1-8F60-492C-ACA0-0E7AEB0F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120-C420-42B5-BA9D-CD505AC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25E-DD9E-46A4-884A-755FE431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0E4-E7FF-4437-BA1D-211C3CC0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B16-58F0-416F-B3F0-5C8631C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833-E1B7-47A2-A9C0-197A2A7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0A0-931E-4230-8B47-10CFE56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D1FC2-34A8-4632-AD3C-370C72E31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