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83238"/>
        <c:axId val="7087204"/>
      </c:barChart>
      <c:catAx>
        <c:axId val="90583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7204"/>
        <c:crosses val="autoZero"/>
        <c:auto val="1"/>
        <c:lblAlgn val="ctr"/>
        <c:lblOffset val="100"/>
        <c:noMultiLvlLbl val="0"/>
      </c:catAx>
      <c:valAx>
        <c:axId val="7087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83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471-F6A0-45DA-A531-8D9638F9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A9B-8496-4E69-9878-8F1AF387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4E8-1FB2-4AA6-A374-6C41740B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55C-5101-4242-922F-5D753B0C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245-16D3-4A7A-A139-71ADB903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AF8-1B62-4D9C-B989-10CB5403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309-13DE-4B0C-9D86-E025EC1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484-6CB2-4E22-B494-741FB86F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4B1-72D2-4E15-BA19-BDD157D9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16FE-4ECC-4691-AE07-CC973B5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DF3-1E40-4D5D-BE4D-2742F80F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A6D-069D-4F70-B465-957C72D8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36714-2250-4BEB-A593-245B2F7506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