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71132"/>
        <c:axId val="38392382"/>
      </c:barChart>
      <c:catAx>
        <c:axId val="29071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92382"/>
        <c:crosses val="autoZero"/>
        <c:auto val="1"/>
        <c:lblAlgn val="ctr"/>
        <c:lblOffset val="100"/>
        <c:noMultiLvlLbl val="0"/>
      </c:catAx>
      <c:valAx>
        <c:axId val="38392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71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3F2-1DB3-46B9-A9A7-3B302482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C35-881F-43B6-A834-E80EDCD1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85A-CCCF-442F-B2F9-D1F6056D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919-E955-49B3-9FAC-B564E5DF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6FA-6A4E-45B6-850C-F10BA6C9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D5A-29E0-49B5-B9CB-CFB25413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AE1-CA11-441E-BE02-7F108A7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84C-9515-432D-8CF1-4AAABBEA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791-AF66-4193-B940-60BC9BFF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4ED-6913-4361-9685-0F67BBC7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EF5-3080-44B8-96DB-99ABA370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A4A-E744-43FE-A8B0-928B9061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32B10-6726-4839-90CC-9B2364E436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