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35595"/>
        <c:axId val="32761985"/>
      </c:barChart>
      <c:catAx>
        <c:axId val="54835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61985"/>
        <c:crosses val="autoZero"/>
        <c:auto val="1"/>
        <c:lblAlgn val="ctr"/>
        <c:lblOffset val="100"/>
        <c:noMultiLvlLbl val="0"/>
      </c:catAx>
      <c:valAx>
        <c:axId val="32761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35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B59-9998-432D-A072-3ABEF532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C3F-94A2-4A65-8B31-001E6E04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F5F-E7DB-4A03-BECD-362FDF76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374-D4B6-49A0-A148-971FE357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0E5-2F82-497E-8FD7-54CB83C5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D84-0064-4A0B-9ADC-6F029202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7E8-4044-441D-BA94-7F04ED2C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F91-4BF4-4252-8422-3BD4598D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FF6-F372-4914-B608-F67FABC9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324-75C1-4F84-824C-5143437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076-DAB0-4B89-A430-A783FF70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2C3-CC5B-4FD5-80BE-30E2433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B515D-1A23-4FA2-A029-56FD842A4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