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032411"/>
        <c:axId val="59181344"/>
      </c:barChart>
      <c:catAx>
        <c:axId val="560324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81344"/>
        <c:crosses val="autoZero"/>
        <c:auto val="1"/>
        <c:lblAlgn val="ctr"/>
        <c:lblOffset val="100"/>
        <c:noMultiLvlLbl val="0"/>
      </c:catAx>
      <c:valAx>
        <c:axId val="591813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324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A865-E9F2-43CD-835E-EBCC488AB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2210-AC40-40BD-B0EA-8B5B6567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61F4-E91E-4AE1-AE97-747DB7B5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86F0-E1BC-460A-A0E7-A5EB0B208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D592-7367-4F7D-B67E-E6A54C78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B728-FEC4-4E7F-9641-26AB1C87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8794-9EF9-44C9-976F-83F6C4EC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889A-681E-47E5-8DFB-BA456AE6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12FA-39B1-4024-AAEC-18C039B9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1743-4B3D-4BA2-BA0F-66EFC07E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8236-85DC-454A-ABE7-9A90BF21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7677-B883-4B1C-B8DB-3FEEE31B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CA3E0-0A78-48EE-A6BC-409345693B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