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023258"/>
        <c:axId val="86179123"/>
      </c:barChart>
      <c:catAx>
        <c:axId val="620232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179123"/>
        <c:crosses val="autoZero"/>
        <c:auto val="1"/>
        <c:lblAlgn val="ctr"/>
        <c:lblOffset val="100"/>
        <c:noMultiLvlLbl val="0"/>
      </c:catAx>
      <c:valAx>
        <c:axId val="861791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0232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04AE-78AE-4A4C-B077-B8428AA8A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1048-25EE-40D2-911C-36FC97E2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B3F3-B492-4870-844F-B67AD3248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72EC-03C8-4A54-9F9E-600FC011E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BCEE-2A3E-4D87-8CF1-73440DE9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F521-7DA6-4853-9FB7-BA177453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EE6B-55DA-4A4C-B21E-90A99D2D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A8CC-472A-40F7-A0D2-36885331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1581-4DF9-45A3-8B78-7FAA4130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A8CD-6B02-441D-975F-8D8320D0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0138-5E58-4360-A5A9-B2C44FEE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D70D-51FC-4A34-A7B9-7EA50A29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1BDB2-7B0F-4763-97B8-21A02E22F4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