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2291"/>
        <c:axId val="14658244"/>
      </c:barChart>
      <c:catAx>
        <c:axId val="60332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58244"/>
        <c:crosses val="autoZero"/>
        <c:auto val="1"/>
        <c:lblAlgn val="ctr"/>
        <c:lblOffset val="100"/>
        <c:noMultiLvlLbl val="0"/>
      </c:catAx>
      <c:valAx>
        <c:axId val="14658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2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8DC-B83B-46F8-9D95-ABEC9DDF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A7D-4EC7-4E2C-872D-E1E3CC4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EFF-ACD8-411D-B2C0-2A1331D3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35A-5E87-45BD-B6ED-0927E18A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718-1CFD-4850-A2C8-E275404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C1E-5F01-4137-A111-7DFBC3D0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0F2-BFCD-4891-A17F-8FA502E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014-0A4B-415A-928C-9FC2DB46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81-966D-4A00-B4F8-59FA99F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151-1F22-4900-98E4-3C17128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9BB-4C4F-4B3B-886A-5D4566A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B79-16C2-41A8-9511-841EF5F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31408-8FE7-48D2-AC8C-4D5E370B7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