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639693"/>
        <c:axId val="89836601"/>
      </c:barChart>
      <c:catAx>
        <c:axId val="836396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36601"/>
        <c:crosses val="autoZero"/>
        <c:auto val="1"/>
        <c:lblAlgn val="ctr"/>
        <c:lblOffset val="100"/>
        <c:noMultiLvlLbl val="0"/>
      </c:catAx>
      <c:valAx>
        <c:axId val="898366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396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8243-C738-414F-BC6E-FD159DBB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ECF3-4738-4652-A020-BF3FDEAA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9240-BB27-4D63-81F0-A4DB4AFB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947-CC97-4B65-B683-7356D353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67D7-93E7-41DE-B860-509566AF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0A90-AFD4-4A8E-9398-4445AFED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556B-333C-4AFD-ADFD-52DE6114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9299-895E-42BB-A8C5-AEA60223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2926-98DA-463E-B672-524B9618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DADD-1055-426B-8FD0-475B19CD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2156-F68E-4EF0-9CF0-4E91A1DC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ED63-D9E8-46CD-AE3F-55F26E53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3BC9C-A91C-49E7-8484-25B8900A0F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