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79936"/>
        <c:axId val="28766560"/>
      </c:barChart>
      <c:catAx>
        <c:axId val="60779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66560"/>
        <c:crosses val="autoZero"/>
        <c:auto val="1"/>
        <c:lblAlgn val="ctr"/>
        <c:lblOffset val="100"/>
        <c:noMultiLvlLbl val="0"/>
      </c:catAx>
      <c:valAx>
        <c:axId val="28766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79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B7A-5EAE-47BC-9AD2-EA476AF2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B2B-9972-4B52-B7B2-12B76CD7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10A-71CE-4AAF-B65E-8AE9AAF0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0A0-69AB-48A3-B525-81BB3D88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8FD-CF41-4D46-8531-EC275588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496-5468-448D-BAA9-ADB7E56A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4A9-B1EA-4E7D-A5CD-F8F06A2D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C55-2D93-474A-B915-3411A2DE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0BD-6020-44C4-983A-A42E2161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C27-9099-4A31-A8E7-7E32A00E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EC9-F95D-4D0A-8472-CAA2F8A6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682-E071-4093-9653-153EC70C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2E7B9-56F3-4DDA-AC25-CF1C5A198C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