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80837"/>
        <c:axId val="41101702"/>
      </c:barChart>
      <c:catAx>
        <c:axId val="37180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01702"/>
        <c:crosses val="autoZero"/>
        <c:auto val="1"/>
        <c:lblAlgn val="ctr"/>
        <c:lblOffset val="100"/>
        <c:noMultiLvlLbl val="0"/>
      </c:catAx>
      <c:valAx>
        <c:axId val="41101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80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362-9F4D-43CC-A77C-4D4FE6CA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A1E-4817-4872-9A17-9DAE5D88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5F5-5DED-491D-A363-97304E0D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1D0-764C-4F3B-88D2-FB4C9DDF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A42-655C-4319-8F1D-0D4C7E31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3B0-008E-43AF-BB89-A781827D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5B2-21EA-4F04-B049-F75AE65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D14-2BFB-4624-90AE-87E0A63F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6DC-59ED-42D6-B5DC-B884DB4C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389-2595-40D1-A8F8-A50B674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26A-470D-4E83-8544-42A9376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AE3-88BE-4B86-91A0-C577BF9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298C1-264C-43D6-A280-BF0E21FE53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