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080735"/>
        <c:axId val="34085179"/>
      </c:barChart>
      <c:catAx>
        <c:axId val="900807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85179"/>
        <c:crosses val="autoZero"/>
        <c:auto val="1"/>
        <c:lblAlgn val="ctr"/>
        <c:lblOffset val="100"/>
        <c:noMultiLvlLbl val="0"/>
      </c:catAx>
      <c:valAx>
        <c:axId val="340851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807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050F-3E7D-406B-B841-42738824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FCEC-87DF-4B52-8FD0-91D6A5E5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2627-6837-4BF9-8BC3-FD84FFD5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8263-346D-4F23-969E-2EF5DA6A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E049-989C-4937-A420-60F6CBB0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FC79-81A7-40F5-90D8-1A062FDA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5E59-92DC-44DC-9F83-63A70F29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3A12-22D9-4DBF-937B-2A931737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5F19-095A-4495-A410-9B5D2E6C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3B20-32C7-42E5-BB9F-4AF9CF20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BA45-B4BD-4894-8B81-47B7C4BD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CAA4-E86E-481A-A3EA-1E745E2B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1EB28-FA93-4D8E-A298-756BA6C57B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