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11247"/>
        <c:axId val="47865701"/>
      </c:barChart>
      <c:catAx>
        <c:axId val="85211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65701"/>
        <c:crosses val="autoZero"/>
        <c:auto val="1"/>
        <c:lblAlgn val="ctr"/>
        <c:lblOffset val="100"/>
        <c:noMultiLvlLbl val="0"/>
      </c:catAx>
      <c:valAx>
        <c:axId val="47865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11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8AF-BD6D-4DDC-9225-7C46DD92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7EE-8B40-41DE-9557-5D839AB0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75A-3444-4218-9384-D52B3E4C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727-2EBD-43CA-8E2F-7F0A6B53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961-DF96-4829-ACE6-D3DFF865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F0D-6F9D-4D99-A305-C983B303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A2F-C211-42D7-8A38-0414AEF8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E44-0453-41C2-9601-F82FB43A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272-32E2-4E80-9F74-91584026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531-8AFD-4451-88FA-19E56FF3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F36-BCAE-49C2-87F4-307D6A2C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B6B-6709-45A6-806F-B74226DC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8AE65-7AA1-4D21-ACDD-8962922940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