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33758"/>
        <c:axId val="86965251"/>
      </c:barChart>
      <c:catAx>
        <c:axId val="782337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65251"/>
        <c:crosses val="autoZero"/>
        <c:auto val="1"/>
        <c:lblAlgn val="ctr"/>
        <c:lblOffset val="100"/>
        <c:noMultiLvlLbl val="0"/>
      </c:catAx>
      <c:valAx>
        <c:axId val="869652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337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91D-D032-4A9F-BC86-5145713B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58E-A766-4237-B9E5-2267F7AA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F46-CE7F-45FD-8A64-CFDE6DA5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C9E0-23C5-4B3A-B150-181CDBEC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85C2-4CAA-493A-927A-0516C6DC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6E65-0B2E-4D81-B260-ECCB8423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ECDD-F2B3-4BAF-8999-B63468ED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116-C0BA-42C8-9ADB-B6121C4F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6412-13C7-43D9-9997-097C4FF8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879-ED20-4598-A1EC-3F9089D8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5DE5-325E-4797-B80B-D703134F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781-F7A2-4449-8A1A-5533C6AD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B00F6-BE09-4450-8783-64C334EE6C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