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90623"/>
        <c:axId val="87052723"/>
      </c:barChart>
      <c:catAx>
        <c:axId val="25090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2723"/>
        <c:crosses val="autoZero"/>
        <c:auto val="1"/>
        <c:lblAlgn val="ctr"/>
        <c:lblOffset val="100"/>
        <c:noMultiLvlLbl val="0"/>
      </c:catAx>
      <c:valAx>
        <c:axId val="87052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90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E4A-255F-499D-8B50-941D929D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CAB-ED3C-46C0-A0A5-C96E3A76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A44-FC6A-45E0-A199-BD7B0152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BC9-C455-4D38-A50E-FA74A278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650-741C-4504-B7B2-F8E48FF8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336-CFB7-44DE-8CDD-F6153E3B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3EF-5647-4B84-BE50-98D901B1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295-AB51-4632-9DA6-83EBC36A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7F2-844F-4A19-A1F9-445C282D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81B-9FAA-4514-A7FF-1927855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464-2961-4333-AC68-502B872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2A5-693E-4306-9FE5-AE45A40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8BBC-F10F-4EF8-B14E-734DCDD02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