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994035"/>
        <c:axId val="19102841"/>
      </c:barChart>
      <c:catAx>
        <c:axId val="239940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102841"/>
        <c:crosses val="autoZero"/>
        <c:auto val="1"/>
        <c:lblAlgn val="ctr"/>
        <c:lblOffset val="100"/>
        <c:noMultiLvlLbl val="0"/>
      </c:catAx>
      <c:valAx>
        <c:axId val="191028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9940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80FE-B2B7-4782-9674-C3FFB6B2C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1201-3836-45F4-BFF5-AE88E7CB6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E638-2A6F-412E-8081-63C97E670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1BB5-53DA-4672-8547-2130CF2EE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D509-D483-4132-A895-F12AE23C5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1ACA-9B3E-4E57-B3C0-54598FD53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100A-9C97-487D-AB8E-401A372B1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37CB-9A94-4EB6-8D04-8890EF653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B270-080D-4C93-A9A4-53EE33A59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3003-8CC0-474A-A27F-7023F478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3307-4176-41AF-BA2B-AFDF3EC4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9553-DA00-40E7-B03D-4CF010B0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D34CBE-788A-44DD-BBB6-61405892C84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