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60536"/>
        <c:axId val="51192849"/>
      </c:barChart>
      <c:catAx>
        <c:axId val="73360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92849"/>
        <c:crosses val="autoZero"/>
        <c:auto val="1"/>
        <c:lblAlgn val="ctr"/>
        <c:lblOffset val="100"/>
        <c:noMultiLvlLbl val="0"/>
      </c:catAx>
      <c:valAx>
        <c:axId val="51192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60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5A2-F8CA-44E8-966C-B3338BC1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759-AF9B-4A2C-8575-EB18C119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1ACA-91B9-4267-BE39-67702AC4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058-BD84-4175-A16D-A31BB8CD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5FA-C40C-48B8-83E6-09DA5C42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D11-388A-44AB-9F9D-83666998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EDA-50AB-497E-99C1-C8CF9B92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1E1-B43D-4629-955D-CB99B839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82E9-4BD3-43E5-9D7F-4CC1E42B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F30-2E0D-4CDC-9BC5-ECDA0568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70C-824E-4886-9765-05EEE8C8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B15-8436-41B5-A6A2-F393C0F5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55DE5-DE84-4EC6-A7FD-E520DDBD84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