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5632"/>
        <c:axId val="8867242"/>
      </c:barChart>
      <c:catAx>
        <c:axId val="1705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7242"/>
        <c:crosses val="autoZero"/>
        <c:auto val="1"/>
        <c:lblAlgn val="ctr"/>
        <c:lblOffset val="100"/>
        <c:noMultiLvlLbl val="0"/>
      </c:catAx>
      <c:valAx>
        <c:axId val="8867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5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B43-9874-4581-B625-BD621535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C63-4351-4727-BCEF-EC9CC1AA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FA2-6445-49CA-B6DA-E04EF7D9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93B-49D4-4256-9BA6-7B86A7DA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47D-E049-40A7-BC86-F633C004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D65-E27B-4FD3-8477-1556107E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0FD-3BD9-4359-83B4-DCC69CFF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AF41-A823-46F4-8B15-4DA11C3D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601-FD35-450B-93B6-D30ECFD7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4EF-7D08-4CEA-9D2C-132CFF89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FAE-31B5-41FE-9D62-548FBA2E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CAC-2D8A-41BA-B9A0-3987BDB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92A07-8584-4D64-98CD-00029C97F7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